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4C0-A0AB-4814-B09E-DE4A9ECB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7E9-E234-4856-BA29-CB9704C1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EAA1B-F4E0-4630-A097-1D91332A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58EF2-FDCD-40B0-AC9B-846B222E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B6902-0AAB-44E7-B41A-733AA69D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D778F-2878-4418-B5DF-E24CD5C2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F2B37-64CD-457D-AF8A-A06A46A1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22EE0-5776-4C91-93F6-A262524B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E19BA-3531-4E12-85DC-337DA6D0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6A0DB-15C4-4DD2-A352-D06CFFE7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69806-41B8-406A-B813-09D9900A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62DFC-61EC-48B0-AE03-6119C312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B30-02AE-4079-A9BB-7CC7901B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41799-F470-48E5-93C4-EA50EB81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B9782-56B5-43FA-BEE6-C19D844E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034FC-FF63-48EB-B0FA-DA5F5049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0A0A0-9B3D-4711-B327-17BFFF2C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617DB-D019-433F-B473-B03D599C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9A31A-6776-4ACC-8013-A35F65DC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7A543-5214-4547-9B71-31877AA7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0DD3A-767F-49EE-B40E-AAB3A0FB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38A54-E169-4989-A682-A1788CF5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F728E-D7F2-44DC-9955-BE29DAAF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1A26-3D26-460C-8C1D-BE60536E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2B676-5DBB-4CA0-BF80-E3C812F3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91CCB-16D2-4C5C-99FB-53F538F6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86B74-B205-47E9-9C53-84958C1C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93A4A-D405-444D-B97D-C0ECF8FB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39446-3798-4E0D-96C3-8B93B9A3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66806-7AC1-4F96-BC5B-F666A66E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75A39-99D5-4452-8484-3B5CE89A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0B1BB-DA9D-45EA-AFEE-00E61E5C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29E93-408E-4271-A6D7-C2944191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0E767-B491-493E-BB35-B0C2F659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4488-D585-40E0-8FAA-383CF715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8C114-5890-45B5-B57D-EBB92EC8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ED7D2-3A12-49DC-84CF-48492C07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47325-E847-4168-A2B1-AA508428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63262-3571-4A1F-8925-45B1B93C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F8915-D524-4164-BB2C-E6881C50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06DA1-4D60-451A-9A21-1B2BE55B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BCB9C-F452-4683-A5DC-F515245D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19463-63A9-443B-98F3-C6135E69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61FEA-B02B-422C-A81D-1E4896FA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A14F8-0B3F-4EE1-8696-0FBD1DD1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86E1-8303-4ABD-AF7B-790D4B5D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57F66-3442-46C4-A79B-6FC849C8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529CB-8DA4-4811-8CD4-724BADA0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73507-A943-47B9-8F2F-DF5824F2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F316C-F43C-40EE-BFAA-463588B7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D45BB-8E83-4692-BC55-9E34DD8B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C957A-8D1C-4AEE-857D-4905AC24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5F434-F09F-4C6A-87F4-8467C903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58500-1299-4A8B-8FC4-27A3B5F0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43C8F-DD7E-40C5-B186-222475A3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E6222-A0C3-4B07-8E2D-14335497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AA45-0B9C-469E-ACC6-2B82BB47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A6E05-0B45-42C3-9CB9-37435ABE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A302B-479C-477E-9200-3AFD7A35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F45485-2B15-48D0-92AE-0992BC49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6180F-BDFF-45D0-9496-FC8B46A1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36587-AB0A-4B65-86C1-723D0C08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7B168-4C8C-49A1-B3AF-86929AD6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96460-F062-4BDB-B51B-B95AF3F8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2EEF57-A54D-4CA3-94CE-5B2AE97C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CC148-8CFA-4256-BA4C-ECDA0353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C8D57-0A0A-4B7E-B95F-45D50E27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AE82-E84E-40CB-A58F-EA31BB67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EEE82B-E2ED-4EF9-B91F-62B17528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DEE53-D48F-4845-83CB-1567C2B2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0D3EE3-2464-4C24-A5A4-1DE55E9F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5AD8ED-F881-4971-817E-04E3E944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1B625-9DB3-4FEE-ACC8-BC47D72B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30E65-75F8-4594-91B1-74FE5E73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2147A8-AC5C-4FB9-802B-5FC39B8B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253DC3-491D-48CB-AC95-925E9A71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2D77E-8A71-4CC1-B164-40F18B5A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B59D7A-FFB8-4D57-9099-95A13662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90C9-35D9-4262-9DDE-A204D48F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194998-35B3-43E2-908C-09BAEA53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DC644E-7385-4C84-86AE-576E2715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DC0A0B-3E8D-4AE0-B53D-3EE37228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26A9C3-CA5D-4609-A41E-2ED842F4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A5DBC0-A471-42F4-BB95-FF06A115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238D1-4F67-477E-B781-2A201403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937FA9-6DE1-41B7-954F-305403FE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2522A3-276B-47D6-ACAE-5E731D53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120A14-6D5F-4A1C-A5BF-9120E599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01CA56-FCC8-4AE8-BDF2-A4329C83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E91A-1154-4EA3-86AB-49455030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16F881-93E4-4066-9D47-E30D1888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CABBF1-6B79-4836-B2DC-359224BA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60596B-40AF-44FE-90B2-BC5A2C2A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7F3B10-1191-454A-BD9F-09C98F3D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7D91D1-4689-4ABE-B44B-0F5FEA81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A090DC-945C-46B1-BFA2-B1B0D721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737EA9-57E1-4CAF-9610-671F8B1B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8E7427-E3A0-4BB4-97A9-F6FAC5BA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8369F3-60F7-4BF0-B86E-EFABC907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D28649-78CD-4C4D-A707-1883E52B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4F06-14B5-4CA0-AB5E-9E5EAFF8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7B7D2-8266-4BF5-B34E-F1A2C78E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849E83-AFBF-471C-8B2E-BF6297F1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CABB42-17BC-48B0-B36D-8383B057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6E7C9B-FBA5-4302-8712-CE643C0B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38CCAB-E83B-4EC6-88EE-71A40A14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C8E1A8-6050-4690-AEC0-1E53C749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26DD67-FCBF-4188-8AF3-BA60A1A2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77F1C5-5926-4BE9-8221-6D408A5B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51CF23-9476-4630-ACE9-A3F75DE0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768600-1724-4B83-AC3E-5EE0BEB5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5DF-11F1-48FB-BBB6-787FBF2F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BB70-3408-4648-A905-F2D4A661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081C18-F1D3-420C-9A0E-EF1E51FB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495096-5DED-4CA4-A03B-3144DFC9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81D5AA-7CE2-42B0-B244-4A402ED8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7D4D3A-0909-4037-8C80-5A46EE03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913C43-4A74-4D89-84A8-94EF75F8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C3F5-F981-4062-810B-72068D79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8D62-3477-472D-B840-2E824E6E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B9CC-0C8C-459B-8926-6C7F881F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EEAA-0D01-4327-A1C1-DA9DFB90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DD064-4BBF-4AB3-AA2F-C3A69493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3C853-E980-4D10-A4D2-DED9A975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64169-0408-4FAA-8322-DB53E6FE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09774-F733-4A3C-A21D-A9A0F7CC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14921-3DDC-4B9D-9FC4-88FA44D2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974-4414-4442-9C47-8CFD01F2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92E6-36BC-4578-8485-D668258D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C8A29-04ED-46A3-831F-21E648D3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74512-58E4-41BD-B6B0-BB3A69F7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6BFF3-B4C9-4038-8AD2-0326A7F3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2B558-961F-478E-B564-F3A3E6F7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20786-BF14-40D1-B7F4-58829E52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F4EDB-5E37-4B85-BAEA-575BA294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94849-EDD6-4A7F-BAC5-69BD401F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25F1C-4163-4AF1-842E-53FCE4EA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EA22C-F714-4E26-866F-8F17CF79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202-7EFF-4FDF-B8D3-50075B59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B15E7-C0A3-48CB-B78B-8A1EB6A5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57ABA-12F8-4F46-8AB9-DD559071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CD6CB-AEFE-4D41-A30F-4CF57160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CD601-1E60-48A7-AE93-7FEE69DF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15F44-0042-4B60-BC6B-E7FCB895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C21FE-4618-4B10-AF46-2CAD3EB4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22C1E-DB6A-46A8-B55A-8F6ACB88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F034A-BA38-4EFE-BD1D-56117768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13D0E-B3A1-443F-9728-F25EE8D2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6F60C-5478-4F38-9F80-10F01A31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3CA-1877-4A6A-9CAA-A32DE6CB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71C88-7EBE-4B68-B787-94A4CAEE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A96EB-5115-4D16-A248-47218783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E5D64-3C7A-4DD0-AD3C-824A65FC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576D1-D465-4B26-8BCE-B2898525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490DA-99FC-470A-A333-7E26D7BD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95DB1-5F95-43E9-8E77-D329AB0D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41198-3364-4C29-AFA8-523B54DE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A15AE-999E-42E2-BACF-1906BD00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71B42-3AD7-486D-A749-6F155733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139DE-DFA2-42BD-942E-6040FE95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9BE-C31B-405D-ABA7-E4F38CB8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AED2C-D84B-4F66-8287-5BF92B1A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48487-65A3-4599-8068-D15CB2D7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651CE-CACD-4EE1-8FAB-C386BAB1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403B8-83D2-499C-85E4-FF16A9E0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7F8C2-9A73-4CEF-BF73-E93FC950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1CAEB-37DB-4FB3-B123-0BEF4226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6FC1E-6BFB-4563-A27A-265089BE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DA7AD-CA29-4804-8CFE-2655A9A2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1A1F4-0C72-4832-9674-830F03D2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22E8F-5D4E-44ED-9EFA-1DC3E155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906-9815-454E-A1C1-073D836E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5A5E5-3E51-49FE-AA5A-B4484C14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79055-1A1D-4138-A4A7-4C3D504E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359B5-3DAF-4629-BBF6-37AD3AD8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A21A6-B285-47AE-8DC1-9779EB6D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59EC2-ED31-46E4-9CC6-A6BF41AA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212F0-B5E8-46A2-87DE-C393389C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68E37-AA69-4E50-B157-7F715E83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5037B-7125-4179-B87F-A602119B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AD6BE-F8B8-48A4-ADFC-BC77132C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42F9A-14F4-4DE4-8D5D-DD94F0E4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F79-EDE4-41D6-BF68-BE781E33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4FAB9-701A-4892-8406-5D7E6979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80E7E-B628-4A29-A970-BD1A15D5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B5E51-E50B-437A-ADD8-377D480A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9E769-79B5-4BDC-9146-F66C8643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5708A-D349-4635-8DA5-3DDB78D4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8DD78-567F-4E69-B5B6-BF139883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1DD01-2968-4D32-A720-4C2EC42B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83E1D-1255-4DC3-92D6-5B9D36F6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C0D37-384A-4EA1-94B0-E64B12F8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A9D35-57A2-4CFF-81A5-09A73251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F28-CBC6-48FC-9B29-C0CA2698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4C30A-9D13-4183-8A3A-CCB02940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7E44C-E24C-49EB-85E4-708CFB2F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E8E56-F7FD-4517-892E-702AD532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334F5-F14A-466E-BB7E-8796FD12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669F7-93D0-4288-B282-01576D05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80E4E-4170-4007-889C-8AE85EED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D987E-A1A8-4EF0-949E-EEBDC2E9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C0B36-66E9-4FC2-8F76-E7B87F91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10535-F99A-4A50-B85A-93A671F0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BCAF0-6E9F-40EA-9B17-F2DC9587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87D3-8D46-411F-BCFD-DEE4C2294B9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2880" y="491112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6DA8-EA4B-40E3-9076-ED34706C411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2880" y="31773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39816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24C3-0ED4-4DE7-98B5-AF6614E130D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2880" y="31773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185112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833580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39816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2AA6-E948-4D53-A15C-EE57311A483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2880" y="491112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9F7F-F494-413B-BC67-687F423E696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2880" y="491112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185112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833580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D2D9-1AD6-44CB-950D-334EC32EB2B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2880" y="491112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F32C-AAE2-47B0-A463-DB6194ED12A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8ED0-1238-4661-907E-692E6D31E10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2D57-BD6E-4B93-BEB1-4BB3329E4FF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30824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398160" y="452916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A45E-8282-4BEB-8E33-F4CEC0AED11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E036-1C46-4F3F-AB9D-8167A816F8D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2880" y="31773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39816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5F31-1E92-4C22-97A0-8762E114FC2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211E-18C7-4A98-953F-F30C0CE2179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6283-19A9-480A-AC23-B1555D4469C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93BC-F1AB-4D09-9DB9-EED06A60616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9F07-414C-403E-B41F-D54DEED4A74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8EEB-C3EA-4765-AFF5-19C1D5CAC79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941480" y="1773000"/>
            <a:ext cx="6686640" cy="300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900" spc="-1" strike="noStrike">
                <a:solidFill>
                  <a:srgbClr val="178dbb"/>
                </a:solidFill>
                <a:latin typeface="Century Gothic"/>
              </a:rPr>
              <a:t>ИЗМЕНЕНИЯ в тестовой части ОГЭ </a:t>
            </a:r>
            <a:r>
              <a:rPr b="1" lang="ru-RU" sz="4900" spc="-1" strike="noStrike">
                <a:solidFill>
                  <a:srgbClr val="178dbb"/>
                </a:solidFill>
                <a:latin typeface="Century Gothic"/>
              </a:rPr>
              <a:t>по русскому языку</a:t>
            </a:r>
            <a:br>
              <a:rPr sz="4900"/>
            </a:br>
            <a:endParaRPr b="0" lang="en-US" sz="49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941480" y="4776480"/>
            <a:ext cx="6686640" cy="14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Century Gothic"/>
              </a:rPr>
              <a:t>  </a:t>
            </a:r>
            <a:r>
              <a:rPr b="1" lang="ru-RU" sz="3200" spc="-1" strike="noStrike">
                <a:solidFill>
                  <a:srgbClr val="595959"/>
                </a:solidFill>
                <a:latin typeface="Century Gothic"/>
              </a:rPr>
              <a:t>Практические рекомендации для подготовки выпускников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274400" y="259920"/>
            <a:ext cx="6683400" cy="7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Задание 7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211" name="Picture 2" descr=""/>
          <p:cNvPicPr/>
          <p:nvPr/>
        </p:nvPicPr>
        <p:blipFill>
          <a:blip r:embed="rId1"/>
          <a:srcRect l="11571" t="38735" r="8737" b="33642"/>
          <a:stretch/>
        </p:blipFill>
        <p:spPr>
          <a:xfrm>
            <a:off x="611280" y="2276640"/>
            <a:ext cx="8031240" cy="2089080"/>
          </a:xfrm>
          <a:prstGeom prst="rect">
            <a:avLst/>
          </a:prstGeom>
          <a:ln w="0">
            <a:noFill/>
          </a:ln>
        </p:spPr>
      </p:pic>
      <p:sp>
        <p:nvSpPr>
          <p:cNvPr id="1212" name="Прямоугольник 4"/>
          <p:cNvSpPr/>
          <p:nvPr/>
        </p:nvSpPr>
        <p:spPr>
          <a:xfrm>
            <a:off x="1332000" y="836640"/>
            <a:ext cx="73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но посвящено орфографическим навыкам. В микротексте пропущены буквы, пропуски пронумерованы. Надо внести в бланк ответов те цифры, на месте которых пишется определённая буква (например, И)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3" name="Заголовок 1"/>
          <p:cNvSpPr/>
          <p:nvPr/>
        </p:nvSpPr>
        <p:spPr>
          <a:xfrm>
            <a:off x="1332000" y="4357800"/>
            <a:ext cx="6683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4" name="TextBox 6"/>
          <p:cNvSpPr/>
          <p:nvPr/>
        </p:nvSpPr>
        <p:spPr>
          <a:xfrm>
            <a:off x="882720" y="5057640"/>
            <a:ext cx="7759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нимательно читаем каждое предложение: акцент на осмысление прочитанного!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Делаем морфемный разбор слова, в котором пропущена буква. Если надо (например, орфограмма в окончании), определяем часть речи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меняем нужное правило и вписываем букву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тельно выписываем в строку ответа подходящие цифры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684840" cy="5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Задание 8</a:t>
            </a:r>
            <a:endParaRPr b="0" lang="en-US" sz="32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216" name="Picture 2" descr=""/>
          <p:cNvPicPr/>
          <p:nvPr/>
        </p:nvPicPr>
        <p:blipFill>
          <a:blip r:embed="rId1"/>
          <a:srcRect l="11745" t="41850" r="8844" b="37357"/>
          <a:stretch/>
        </p:blipFill>
        <p:spPr>
          <a:xfrm>
            <a:off x="1228680" y="2997360"/>
            <a:ext cx="7628040" cy="1498320"/>
          </a:xfrm>
          <a:prstGeom prst="rect">
            <a:avLst/>
          </a:prstGeom>
          <a:ln w="0">
            <a:noFill/>
          </a:ln>
        </p:spPr>
      </p:pic>
      <p:sp>
        <p:nvSpPr>
          <p:cNvPr id="1217" name="Прямоугольник 4"/>
          <p:cNvSpPr/>
          <p:nvPr/>
        </p:nvSpPr>
        <p:spPr>
          <a:xfrm>
            <a:off x="1258920" y="851040"/>
            <a:ext cx="76294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Надо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поставить слово в правильную форму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(вставить в указанное предложение). Встречаются слова разных частей речи: существительные, прилагательные, глаголы, числительные. Предлагаются формы слов, вызывающие наибольшее затруднение: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Р.п. и И.п. мн.ч., другие формы существительных (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сапог, помидоров; месяцы, доктора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сравнительная степень прилагательных (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лучше, меньше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овелительное наклонение и другие формы глаголов (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лягте, разожжет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косвенные падежи количественных числительных (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свыше пятисот, обеим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) и др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8" name="TextBox 6"/>
          <p:cNvSpPr/>
          <p:nvPr/>
        </p:nvSpPr>
        <p:spPr>
          <a:xfrm>
            <a:off x="1619280" y="4473720"/>
            <a:ext cx="41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9" name="TextBox 8"/>
          <p:cNvSpPr/>
          <p:nvPr/>
        </p:nvSpPr>
        <p:spPr>
          <a:xfrm>
            <a:off x="1173240" y="5013360"/>
            <a:ext cx="768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нимательно читаем предложение: акцент на осмысление прочитанного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споминаем правильную форму слова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подготовке используем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 заучивания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монический мет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нимательно вписываем в строку ответа слово в нужной форме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щая внимание на орфографию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Рисунок 3" descr=""/>
          <p:cNvPicPr/>
          <p:nvPr/>
        </p:nvPicPr>
        <p:blipFill>
          <a:blip r:embed="rId1"/>
          <a:stretch/>
        </p:blipFill>
        <p:spPr>
          <a:xfrm>
            <a:off x="995400" y="4292640"/>
            <a:ext cx="3222720" cy="241776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2" descr="Picture background"/>
          <p:cNvPicPr/>
          <p:nvPr/>
        </p:nvPicPr>
        <p:blipFill>
          <a:blip r:embed="rId2"/>
          <a:stretch/>
        </p:blipFill>
        <p:spPr>
          <a:xfrm>
            <a:off x="971640" y="184320"/>
            <a:ext cx="3168720" cy="4028760"/>
          </a:xfrm>
          <a:prstGeom prst="rect">
            <a:avLst/>
          </a:prstGeom>
          <a:ln w="0">
            <a:noFill/>
          </a:ln>
        </p:spPr>
      </p:pic>
      <p:pic>
        <p:nvPicPr>
          <p:cNvPr id="1222" name="Рисунок 5" descr=""/>
          <p:cNvPicPr/>
          <p:nvPr/>
        </p:nvPicPr>
        <p:blipFill>
          <a:blip r:embed="rId3"/>
          <a:srcRect l="0" t="9834" r="0" b="0"/>
          <a:stretch/>
        </p:blipFill>
        <p:spPr>
          <a:xfrm>
            <a:off x="4827600" y="3633840"/>
            <a:ext cx="3511440" cy="3076560"/>
          </a:xfrm>
          <a:prstGeom prst="rect">
            <a:avLst/>
          </a:prstGeom>
          <a:ln w="0">
            <a:noFill/>
          </a:ln>
        </p:spPr>
      </p:pic>
      <p:sp>
        <p:nvSpPr>
          <p:cNvPr id="1223" name="TextBox 6"/>
          <p:cNvSpPr/>
          <p:nvPr/>
        </p:nvSpPr>
        <p:spPr>
          <a:xfrm>
            <a:off x="4743360" y="22716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b4e6"/>
                </a:solidFill>
                <a:latin typeface="Century Gothic"/>
              </a:rPr>
              <a:t>Склонению числительных –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b4e6"/>
                </a:solidFill>
                <a:latin typeface="Century Gothic"/>
              </a:rPr>
              <a:t>особое внимание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24" name="Picture 4" descr="Picture background"/>
          <p:cNvPicPr/>
          <p:nvPr/>
        </p:nvPicPr>
        <p:blipFill>
          <a:blip r:embed="rId4"/>
          <a:stretch/>
        </p:blipFill>
        <p:spPr>
          <a:xfrm>
            <a:off x="4832280" y="981000"/>
            <a:ext cx="3541680" cy="2652840"/>
          </a:xfrm>
          <a:prstGeom prst="rect">
            <a:avLst/>
          </a:prstGeom>
          <a:ln w="0">
            <a:noFill/>
          </a:ln>
        </p:spPr>
      </p:pic>
      <p:sp>
        <p:nvSpPr>
          <p:cNvPr id="1225" name="Прямая соединительная линия 8"/>
          <p:cNvSpPr/>
          <p:nvPr/>
        </p:nvSpPr>
        <p:spPr>
          <a:xfrm>
            <a:off x="4427640" y="227160"/>
            <a:ext cx="0" cy="6446520"/>
          </a:xfrm>
          <a:prstGeom prst="line">
            <a:avLst/>
          </a:prstGeom>
          <a:ln cap="rnd"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557000" y="393840"/>
            <a:ext cx="6683400" cy="6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Задание 12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1187280" y="981000"/>
            <a:ext cx="7732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дание 12 похоже на прежнее 8, но стало сложнее. Если раньше слово, которое надо заменить стилистически нейтральным, было дано в формулировке задания, то теперь слово с заданной характеристикой надо сначала найти в указанном отрывк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8" name="Picture 2" descr=""/>
          <p:cNvPicPr/>
          <p:nvPr/>
        </p:nvPicPr>
        <p:blipFill>
          <a:blip r:embed="rId1"/>
          <a:srcRect l="8858" t="35438" r="6179" b="45861"/>
          <a:stretch/>
        </p:blipFill>
        <p:spPr>
          <a:xfrm>
            <a:off x="755640" y="2395440"/>
            <a:ext cx="8209080" cy="1368360"/>
          </a:xfrm>
          <a:prstGeom prst="rect">
            <a:avLst/>
          </a:prstGeom>
          <a:ln w="0">
            <a:noFill/>
          </a:ln>
        </p:spPr>
      </p:pic>
      <p:sp>
        <p:nvSpPr>
          <p:cNvPr id="1229" name="TextBox 4"/>
          <p:cNvSpPr/>
          <p:nvPr/>
        </p:nvSpPr>
        <p:spPr>
          <a:xfrm>
            <a:off x="1557360" y="38718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0" name="TextBox 5"/>
          <p:cNvSpPr/>
          <p:nvPr/>
        </p:nvSpPr>
        <p:spPr>
          <a:xfrm>
            <a:off x="1057320" y="4476600"/>
            <a:ext cx="768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нимательно читаем предложения:  все то же осмысление прочитанного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Ищем нужное слово или фразеологизм. В задании 12 встречаются синонимы, антонимы, слова высокого стиля речи, разговорные (просторечные) слова, фразеологизмы. Особое внимание – «незаметным» фразеологизмам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необходимости заменяем другим словом и записываем ответ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щая внимание на орфографию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Итог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941480" y="1412640"/>
            <a:ext cx="66866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дводя итог, можно сказать, что тестовая часть стала разнообразнее, но сложнее: времени и сил на подготовку придётся затратить больш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74680" y="260280"/>
            <a:ext cx="79502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В 2024 году изменения коснулись ОГЭ по русскому языку и литературе</a:t>
            </a:r>
            <a:br>
              <a:rPr sz="3200"/>
            </a:br>
            <a:endParaRPr b="0" lang="en-US" sz="32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179" name="Picture 2" descr="Изменения в КИМ ОГЭ 2024"/>
          <p:cNvPicPr/>
          <p:nvPr/>
        </p:nvPicPr>
        <p:blipFill>
          <a:blip r:embed="rId1"/>
          <a:stretch/>
        </p:blipFill>
        <p:spPr>
          <a:xfrm>
            <a:off x="826920" y="1484280"/>
            <a:ext cx="8128080" cy="5200560"/>
          </a:xfrm>
          <a:prstGeom prst="rect">
            <a:avLst/>
          </a:prstGeom>
          <a:ln w="0">
            <a:noFill/>
          </a:ln>
        </p:spPr>
      </p:pic>
      <p:sp>
        <p:nvSpPr>
          <p:cNvPr id="1180" name="Прямая соединительная линия 5"/>
          <p:cNvSpPr/>
          <p:nvPr/>
        </p:nvSpPr>
        <p:spPr>
          <a:xfrm>
            <a:off x="3276720" y="5732640"/>
            <a:ext cx="4464000" cy="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6848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8dbb"/>
                </a:solidFill>
                <a:latin typeface="Century Gothic"/>
              </a:rPr>
              <a:t>Теперь в экзамене не 7, </a:t>
            </a:r>
            <a:br>
              <a:rPr sz="3600"/>
            </a:br>
            <a:r>
              <a:rPr b="1" lang="ru-RU" sz="3600" spc="-1" strike="noStrike">
                <a:solidFill>
                  <a:srgbClr val="178dbb"/>
                </a:solidFill>
                <a:latin typeface="Century Gothic"/>
              </a:rPr>
              <a:t>а 11 тестовых заданий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2" name="TextBox 5"/>
          <p:cNvSpPr/>
          <p:nvPr/>
        </p:nvSpPr>
        <p:spPr>
          <a:xfrm>
            <a:off x="684360" y="1917720"/>
            <a:ext cx="8388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Соответственно, изменились номера привычных заданий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2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ее №2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пределение грамматических основ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3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новое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: синтаксический анализ предложений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4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новое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: синтаксический и пунктуационный анализ предложений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5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ее №3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пунктуация, расставить знаки препинания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6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ее №5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рфографический анализ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7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новое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рфография, вставить пропущенные буквы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8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новое: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грамматические нормы, поставить слово в нужную форму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9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ее №4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замена словосочетания на синонимичное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я 10, 11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ие №№6 и 7: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работа с текстом, лексика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12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похожее на прежнее №8, но сложнее: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лексический анализ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Что используем в работе?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1947600" y="1491840"/>
            <a:ext cx="66862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Сборник «Типовые экзаменационные варианты» под редакцией Дощинского и Цыбулько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«Учебная книга участника ОГЭ» под редакцией Цыбулько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Папка с теоретическим материалом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5" name="Picture 4" descr="ОГЭ-2025. Русский язык: типовые экзаменационные варианты: 36 вариантов (Национальное образование)"/>
          <p:cNvPicPr/>
          <p:nvPr/>
        </p:nvPicPr>
        <p:blipFill>
          <a:blip r:embed="rId1"/>
          <a:stretch/>
        </p:blipFill>
        <p:spPr>
          <a:xfrm>
            <a:off x="2189160" y="3141720"/>
            <a:ext cx="2382840" cy="3173400"/>
          </a:xfrm>
          <a:prstGeom prst="rect">
            <a:avLst/>
          </a:prstGeom>
          <a:ln w="0">
            <a:noFill/>
          </a:ln>
        </p:spPr>
      </p:pic>
      <p:sp>
        <p:nvSpPr>
          <p:cNvPr id="118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7" name="AutoShape 8"/>
          <p:cNvSpPr/>
          <p:nvPr/>
        </p:nvSpPr>
        <p:spPr>
          <a:xfrm>
            <a:off x="4572000" y="3429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8" name="Picture 16" descr=""/>
          <p:cNvPicPr/>
          <p:nvPr/>
        </p:nvPicPr>
        <p:blipFill>
          <a:blip r:embed="rId2"/>
          <a:stretch/>
        </p:blipFill>
        <p:spPr>
          <a:xfrm>
            <a:off x="5148360" y="3146400"/>
            <a:ext cx="2382840" cy="3164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Задания 2 и 3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1334880" y="1539720"/>
            <a:ext cx="66834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Оба выполняются по маленькому тексту, помещенному в начале тестовой части. Текст состоит </a:t>
            </a:r>
            <a:r>
              <a:rPr b="1" i="1" lang="ru-RU" sz="1600" spc="-1" strike="noStrike" u="sng">
                <a:solidFill>
                  <a:srgbClr val="404040"/>
                </a:solidFill>
                <a:uFillTx/>
                <a:latin typeface="Century Gothic"/>
              </a:rPr>
              <a:t>из пяти предложений</a:t>
            </a:r>
            <a:r>
              <a:rPr b="0" lang="ru-RU" sz="16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entury Gothic"/>
              </a:rPr>
              <a:t>Задание 2 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заключается в необходимости определить основы предложений и выбрать те варианты ответов, в которых указаны верные основы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entury Gothic"/>
              </a:rPr>
              <a:t>Задание 3 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ключает в себя различную информацию по синтаксису этих предложений, кроме конкретного состава грамматических основ: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односоставное или двусоставное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тип сказуемого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связь частей сложного предложения;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виды придаточных предложений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разные виды осложнений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i="1" lang="ru-RU" sz="1600" spc="-1" strike="noStrike">
                <a:solidFill>
                  <a:srgbClr val="404040"/>
                </a:solidFill>
                <a:latin typeface="Century Gothic"/>
              </a:rPr>
              <a:t>и другие характеристики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Picture 2" descr="https://avatars.dzeninfra.ru/get-zen_doc/1720666/pub_64e839f6bc779f74a9e78645_64e83e7df6ccc15bd1145657/scale_2400"/>
          <p:cNvPicPr/>
          <p:nvPr/>
        </p:nvPicPr>
        <p:blipFill>
          <a:blip r:embed="rId1"/>
          <a:stretch/>
        </p:blipFill>
        <p:spPr>
          <a:xfrm>
            <a:off x="1979640" y="2519280"/>
            <a:ext cx="5551560" cy="4162680"/>
          </a:xfrm>
          <a:prstGeom prst="rect">
            <a:avLst/>
          </a:prstGeom>
          <a:ln w="0">
            <a:noFill/>
          </a:ln>
        </p:spPr>
      </p:pic>
      <p:pic>
        <p:nvPicPr>
          <p:cNvPr id="1192" name="Рисунок 2" descr=""/>
          <p:cNvPicPr/>
          <p:nvPr/>
        </p:nvPicPr>
        <p:blipFill>
          <a:blip r:embed="rId2"/>
          <a:stretch/>
        </p:blipFill>
        <p:spPr>
          <a:xfrm>
            <a:off x="1979640" y="44280"/>
            <a:ext cx="5551560" cy="234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TextBox 2"/>
          <p:cNvSpPr/>
          <p:nvPr/>
        </p:nvSpPr>
        <p:spPr>
          <a:xfrm>
            <a:off x="1200240" y="1058760"/>
            <a:ext cx="7522920" cy="53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тельно читаем текст и каждое предложение: акцент на осмысление прочитанного!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   Работаем с каждым предложением в таком порядке: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подчеркиваем основу (основы) предложения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водим союзы и союзные слова, соединяющие простые предложения в сложном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авляем круглые и квадратные скобки, разделяя сложные предложения на простые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яем задание 2, сверяя основы с предложенными в задании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яем задание 3, опираясь на разметку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утверждение связано с осложнениями простых предложений, находим и графически обозначаем осложнение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эт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еркало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о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тои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ежду нами и миром, отражая общие представления всех говорящих на нем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чем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еркал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языка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ража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все свойства окружающей действительности, а только те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азалис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собенн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ажны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едкам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осителям этого языка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в языках некоторых северных народов: эскимосов, чукчей, коряков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у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ножество названи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нега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[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Люд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нимают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нег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нима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их жизни заметно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сто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ег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личест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остоя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цв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чень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ажны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ы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ража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артину мира и через грамматику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этому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ую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имеющие более тридцати падежей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лужат способом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азать точное положение предмета в пространстве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4" name="Заголовок 1"/>
          <p:cNvSpPr/>
          <p:nvPr/>
        </p:nvSpPr>
        <p:spPr>
          <a:xfrm>
            <a:off x="1619280" y="260280"/>
            <a:ext cx="6684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5" name="Овал 4"/>
          <p:cNvSpPr/>
          <p:nvPr/>
        </p:nvSpPr>
        <p:spPr>
          <a:xfrm>
            <a:off x="3800520" y="3525840"/>
            <a:ext cx="700200" cy="237960"/>
          </a:xfrm>
          <a:prstGeom prst="ellipse">
            <a:avLst/>
          </a:prstGeom>
          <a:noFill/>
          <a:ln cap="rnd"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6" name="Рисунок 5" descr=""/>
          <p:cNvPicPr/>
          <p:nvPr/>
        </p:nvPicPr>
        <p:blipFill>
          <a:blip r:embed="rId1"/>
          <a:stretch/>
        </p:blipFill>
        <p:spPr>
          <a:xfrm>
            <a:off x="4500720" y="4221000"/>
            <a:ext cx="736560" cy="238320"/>
          </a:xfrm>
          <a:prstGeom prst="rect">
            <a:avLst/>
          </a:prstGeom>
          <a:ln w="0">
            <a:noFill/>
          </a:ln>
        </p:spPr>
      </p:pic>
      <p:pic>
        <p:nvPicPr>
          <p:cNvPr id="1197" name="Рисунок 6" descr=""/>
          <p:cNvPicPr/>
          <p:nvPr/>
        </p:nvPicPr>
        <p:blipFill>
          <a:blip r:embed="rId2"/>
          <a:stretch/>
        </p:blipFill>
        <p:spPr>
          <a:xfrm>
            <a:off x="7885080" y="5678640"/>
            <a:ext cx="736560" cy="288720"/>
          </a:xfrm>
          <a:prstGeom prst="rect">
            <a:avLst/>
          </a:prstGeom>
          <a:ln w="0">
            <a:noFill/>
          </a:ln>
        </p:spPr>
      </p:pic>
      <p:pic>
        <p:nvPicPr>
          <p:cNvPr id="1198" name="Рисунок 8" descr=""/>
          <p:cNvPicPr/>
          <p:nvPr/>
        </p:nvPicPr>
        <p:blipFill>
          <a:blip r:embed="rId3"/>
          <a:stretch/>
        </p:blipFill>
        <p:spPr>
          <a:xfrm>
            <a:off x="7147080" y="5967360"/>
            <a:ext cx="73800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Рисунок 5" descr=""/>
          <p:cNvPicPr/>
          <p:nvPr/>
        </p:nvPicPr>
        <p:blipFill>
          <a:blip r:embed="rId1"/>
          <a:srcRect l="8968" t="0" r="0" b="0"/>
          <a:stretch/>
        </p:blipFill>
        <p:spPr>
          <a:xfrm>
            <a:off x="4284720" y="836640"/>
            <a:ext cx="4608360" cy="590544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Задание 4. </a:t>
            </a:r>
            <a:br>
              <a:rPr sz="3600"/>
            </a:b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1339560" y="981000"/>
            <a:ext cx="230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дание 4 </a:t>
            </a: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очень похоже на задание 8 из ЕГЭ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. Нужно сопоставить правило и пример к нему, причем примеров больше, чем правил, и это уже не те предложения, что в первом тексте. Предложений пять, правил три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Box 3"/>
          <p:cNvSpPr/>
          <p:nvPr/>
        </p:nvSpPr>
        <p:spPr>
          <a:xfrm>
            <a:off x="4427640" y="2127240"/>
            <a:ext cx="439236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Times New Roman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еркало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о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тои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ежду нами и миром, отражая общие представления всех говорящих на нем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чем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еркал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язык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ража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все свойства окружающей действительности, а только те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ы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азалис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собенн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ажны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едкам –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осителям этого язык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в языках некоторых северных народов: эскимосов, чукчей, коряков –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у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ножество названи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нег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[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Люд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нимают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]</a:t>
            </a:r>
            <a:r>
              <a:rPr b="1" lang="ru-RU" sz="1400" spc="-1" strike="noStrike">
                <a:solidFill>
                  <a:srgbClr val="00b0f0"/>
                </a:solidFill>
                <a:latin typeface="Times New Roman"/>
                <a:ea typeface="Calibri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не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нима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их жизни заметное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сто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г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личест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остоя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цв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чень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ажны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ый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ража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артину мира и через грамматику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этому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ую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и</a:t>
            </a:r>
            <a:r>
              <a:rPr b="1" lang="ru-RU" sz="1600" spc="-1" strike="noStrike">
                <a:solidFill>
                  <a:srgbClr val="00b0f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 u="sng">
                <a:solidFill>
                  <a:srgbClr val="00b0f0"/>
                </a:solidFill>
                <a:uFillTx/>
                <a:latin typeface="Times New Roman"/>
                <a:ea typeface="Calibri"/>
              </a:rPr>
              <a:t>/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меющие более тридцати падежей</a:t>
            </a:r>
            <a:r>
              <a:rPr b="1" lang="en-US" sz="1400" spc="-1" strike="noStrike" u="sng">
                <a:solidFill>
                  <a:srgbClr val="00b0f0"/>
                </a:solidFill>
                <a:uFillTx/>
                <a:latin typeface="Times New Roman"/>
                <a:ea typeface="Calibri"/>
              </a:rPr>
              <a:t>/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)</a:t>
            </a:r>
            <a:r>
              <a:rPr b="1" lang="ru-RU" sz="1600" spc="-1" strike="noStrike">
                <a:solidFill>
                  <a:srgbClr val="00b0f0"/>
                </a:solidFill>
                <a:latin typeface="Times New Roman"/>
                <a:ea typeface="Calibri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ы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лужат способом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азать точное положение предмета в пространстве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3" name="Рисунок 4" descr=""/>
          <p:cNvPicPr/>
          <p:nvPr/>
        </p:nvPicPr>
        <p:blipFill>
          <a:blip r:embed="rId1"/>
          <a:srcRect l="8968" t="12197" r="46941" b="43905"/>
          <a:stretch/>
        </p:blipFill>
        <p:spPr>
          <a:xfrm>
            <a:off x="539640" y="2060640"/>
            <a:ext cx="3533760" cy="4105080"/>
          </a:xfrm>
          <a:prstGeom prst="rect">
            <a:avLst/>
          </a:prstGeom>
          <a:ln w="0">
            <a:noFill/>
          </a:ln>
        </p:spPr>
      </p:pic>
      <p:sp>
        <p:nvSpPr>
          <p:cNvPr id="1204" name="Заголовок 1"/>
          <p:cNvSpPr/>
          <p:nvPr/>
        </p:nvSpPr>
        <p:spPr>
          <a:xfrm>
            <a:off x="1306440" y="123840"/>
            <a:ext cx="6685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5" name="TextBox 9"/>
          <p:cNvSpPr/>
          <p:nvPr/>
        </p:nvSpPr>
        <p:spPr>
          <a:xfrm>
            <a:off x="1332000" y="765000"/>
            <a:ext cx="748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тельно читаем каждое предложение: акцент на осмысление прочитанного!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   Подчеркиваем основы и скобками обозначаем простые предложения, аналогично заданиям №№2 и 3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  Находим и обозначаем графически осложнения простых предложений, о которых говорится в задании №4. В этом нам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гают знаки препинания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 которых говорится в ответах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Прямая соединительная линия 10"/>
          <p:cNvSpPr/>
          <p:nvPr/>
        </p:nvSpPr>
        <p:spPr>
          <a:xfrm flipV="1">
            <a:off x="3929040" y="2421000"/>
            <a:ext cx="719280" cy="1800000"/>
          </a:xfrm>
          <a:prstGeom prst="line">
            <a:avLst/>
          </a:prstGeom>
          <a:ln cap="rnd"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Прямая соединительная линия 12"/>
          <p:cNvSpPr/>
          <p:nvPr/>
        </p:nvSpPr>
        <p:spPr>
          <a:xfrm>
            <a:off x="3851280" y="2852640"/>
            <a:ext cx="649440" cy="2160720"/>
          </a:xfrm>
          <a:prstGeom prst="line">
            <a:avLst/>
          </a:prstGeom>
          <a:ln cap="rnd"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8" name="Прямая соединительная линия 14"/>
          <p:cNvSpPr/>
          <p:nvPr/>
        </p:nvSpPr>
        <p:spPr>
          <a:xfrm flipV="1">
            <a:off x="3851280" y="4508640"/>
            <a:ext cx="576360" cy="720720"/>
          </a:xfrm>
          <a:prstGeom prst="line">
            <a:avLst/>
          </a:prstGeom>
          <a:ln cap="rnd"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9" name="Рисунок 16" descr=""/>
          <p:cNvPicPr/>
          <p:nvPr/>
        </p:nvPicPr>
        <p:blipFill>
          <a:blip r:embed="rId2"/>
          <a:srcRect l="11113" t="85374" r="7813" b="1218"/>
          <a:stretch/>
        </p:blipFill>
        <p:spPr>
          <a:xfrm>
            <a:off x="544680" y="6051600"/>
            <a:ext cx="410364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27T10:14:53Z</dcterms:created>
  <dc:creator>User</dc:creator>
  <dc:description/>
  <dc:language>en-US</dc:language>
  <cp:lastModifiedBy>УМЦ</cp:lastModifiedBy>
  <dcterms:modified xsi:type="dcterms:W3CDTF">2025-04-09T06:30:07Z</dcterms:modified>
  <cp:revision>16</cp:revision>
  <dc:subject/>
  <dc:title>ИЗМЕНЕНИЯ в ОГЭ</dc:title>
</cp:coreProperties>
</file>